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028E-FD41-40F9-97C6-125864D3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6DB5-0552-4354-A688-8C10FB29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0FA3-B458-4B60-9E1F-BF7FADF7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6A4F-8C57-4258-BB26-E2F34C0C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6D8A-ACAF-4771-9D25-39668C5E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DF52-31BA-429C-8FBE-1CDF36A2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191D-9BB5-4795-9FA5-57A91D7B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AD2A-C5B6-466A-8243-3BF4C8C0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8604-66B4-40EF-866D-7BBAC604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86EC-239D-4A3C-A960-1C5CE1C4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4BB6-2F23-4698-B0D3-EDE90859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6B03-120D-4104-9487-CA1A5337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C348-EA69-40F5-8B94-0BF657E2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1EBB-1824-4FE1-A33B-39D97CA4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905D-E0BD-4F7A-AF56-ADDE1F92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2975-9442-4991-8C1A-5AC4F160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2C2B-696C-4436-AC4A-C3C55F0E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10C19-3AC4-45A9-8681-5ABD5125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E6109-CDEE-4A57-A620-E434ED04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F4345-772F-4D6B-902A-5A67B37A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847E7-91F5-41DC-BE7A-19BB090F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F35B1-3373-45C6-87BA-FD05B5D2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CE4F-B619-431B-B84B-7E8897C7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C8281-4312-4B61-9F2C-E997B8E3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AFA11-992F-4ABF-8C92-4B7F04F5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9518C-2CDF-4295-80E7-AFE63573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C4F09-3856-4026-BDA7-B35CBC13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63150-CB7B-4A0D-BD9E-382D56D9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FC071-729B-42CF-9525-BE4E9B08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01B97-CBB6-406E-AD7A-1AD48F6D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44F9-90CB-446F-BB60-2E1461E5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740A-AF85-4F37-9F9A-4155F4F1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C2ED-7836-475A-A964-A8006B7E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A9A4-D79D-4395-AB24-BF171751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90D9-D0B3-43F5-8963-6237FD2C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9166-6D8A-49A4-9237-EB859888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683F-29F7-4EE2-A3C1-70359A017A7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2D20-E717-4CC3-9971-727365EAE0E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7F4C-6B8A-40E1-A09C-440FBD0A4B8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571760" y="1125360"/>
            <a:ext cx="6095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nstantia"/>
              </a:rPr>
              <a:t>Велимир Хлебник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Constantia"/>
              </a:rPr>
              <a:t>(1885-192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nstantia"/>
              </a:rPr>
              <a:t>Биография поэ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Title 1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059680" cy="1382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E:\Юля\картинки\Pictures\28.jpg"/>
          <p:cNvPicPr/>
          <p:nvPr/>
        </p:nvPicPr>
        <p:blipFill>
          <a:blip r:embed="rId2"/>
          <a:stretch/>
        </p:blipFill>
        <p:spPr>
          <a:xfrm>
            <a:off x="3929040" y="2857680"/>
            <a:ext cx="4781520" cy="36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itle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444160" cy="13032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2" descr="Велимир Хлебников"/>
          <p:cNvPicPr/>
          <p:nvPr/>
        </p:nvPicPr>
        <p:blipFill>
          <a:blip r:embed="rId2"/>
          <a:stretch/>
        </p:blipFill>
        <p:spPr>
          <a:xfrm>
            <a:off x="785880" y="214200"/>
            <a:ext cx="2000160" cy="25146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7"/>
          <p:cNvSpPr/>
          <p:nvPr/>
        </p:nvSpPr>
        <p:spPr>
          <a:xfrm>
            <a:off x="0" y="2786040"/>
            <a:ext cx="8929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елимир (настоящее имя — Виктор) Хлебников родился двадцать восьмого  октября (девятого ноября) 1885 г., в урочище Ханская Ставка в Калмыки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     По отцовской линии происходил из старинного купеческого рода. Отец, Владимир Алексеевич, орнитолог и лесовод, ставший одним из основателей первого в СССР Астраханского заповедника, пробудил в душе сына интерес к естественным наукам и любовь к природ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     Мать, Екатерина Николаевна, урожденная Вербицкая, историк по образованию, происходила из богатой петербургской семьи, ведущей свой род от запорожских казаков. Закончила Смольный институт и всем своим пятерым детям — Борису, Екатерине, Виктору, Александру и Вере — дала хорошее домашнее образование, привила любовь к искусству, истории и литературе. Виктора обучали языкам (читать по-русски и по-французски он научился в четыре года) и рисованию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Title 1" descr=""/>
          <p:cNvPicPr/>
          <p:nvPr/>
        </p:nvPicPr>
        <p:blipFill>
          <a:blip r:embed="rId1"/>
          <a:stretch/>
        </p:blipFill>
        <p:spPr>
          <a:xfrm>
            <a:off x="298440" y="701640"/>
            <a:ext cx="8474040" cy="495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785880" y="4429080"/>
            <a:ext cx="8143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руг интересов Хлебникова был чрезвычайно широк. Он занимался математикой, кристаллографией, биологией, физической химией, изучал японский язык, увлекался философией Платона и Спинозы, пробовал себя в музыке, живописи и литературе. Некоторые из своих стихотворных и прозаических опытов в 1904 г. послал А.М. Горьком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Image16"/>
          <p:cNvPicPr/>
          <p:nvPr/>
        </p:nvPicPr>
        <p:blipFill>
          <a:blip r:embed="rId1"/>
          <a:stretch/>
        </p:blipFill>
        <p:spPr>
          <a:xfrm>
            <a:off x="3643200" y="214200"/>
            <a:ext cx="4295880" cy="39290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"/>
          <p:cNvSpPr/>
          <p:nvPr/>
        </p:nvSpPr>
        <p:spPr>
          <a:xfrm>
            <a:off x="426600" y="8571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втопортрет В.Хлебн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285840" y="384840"/>
            <a:ext cx="77151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1908 г. Хлебников оставил университет и уехал в Петербург. 18 сентября 1908 г. он стал студентом третьего курса естественного отделения физико-математического факультета Петербургского университета, в следующем учебном году подал заявление с просьбой о переводе на факультет восточных языков (отделение санскритской словесности), а 15 октября 1909 г. перевелся на первый курс славяно-русского отделения историко-филологического факультета. Тогда же Хлебников вошел в круг поэтов-символистов, объединившихся вокруг </a:t>
            </a:r>
            <a:r>
              <a:rPr b="0" lang="ru-RU" sz="1600" spc="-1" strike="noStrike">
                <a:solidFill>
                  <a:srgbClr val="262626"/>
                </a:solidFill>
                <a:latin typeface="Arial"/>
                <a:ea typeface="Times New Roman"/>
              </a:rPr>
              <a:t>Вяч. Ивано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Хлебников стал бывать на «башне» на литературных «средах», где его переименовали на славянский лад в Велимира, посещал «Академию стиха» при журнале «Аполлон», где познакомился с А. Толстым, О. Мандельштамом, Н. Гумилевым. Однако в символистских журналах стихи Хлебникова не печатали. Велимир был и сознавал себя чужаком в этом кругу, несмотря на старательное следование символистским канонам. В 1910 г. будучи уже сложившимся поэтом, Хлебников отошел от символизма.</a:t>
            </a:r>
            <a:br>
              <a:rPr sz="800"/>
            </a:br>
            <a:br>
              <a:rPr sz="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2"/>
          <p:cNvPicPr/>
          <p:nvPr/>
        </p:nvPicPr>
        <p:blipFill>
          <a:blip r:embed="rId1"/>
          <a:stretch/>
        </p:blipFill>
        <p:spPr>
          <a:xfrm flipH="1" rot="159000">
            <a:off x="5982840" y="4064040"/>
            <a:ext cx="2827440" cy="2373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9" descr="E:\Лит.7-8кл\{A52F63C6-8039-4A04-8D16-423F6B8862E8}.jpg"/>
          <p:cNvPicPr/>
          <p:nvPr/>
        </p:nvPicPr>
        <p:blipFill>
          <a:blip r:embed="rId1"/>
          <a:stretch/>
        </p:blipFill>
        <p:spPr>
          <a:xfrm>
            <a:off x="2857680" y="3929040"/>
            <a:ext cx="2592360" cy="2428920"/>
          </a:xfrm>
          <a:prstGeom prst="rect">
            <a:avLst/>
          </a:prstGeom>
          <a:ln w="0">
            <a:noFill/>
          </a:ln>
        </p:spPr>
      </p:pic>
      <p:pic>
        <p:nvPicPr>
          <p:cNvPr id="165" name="Title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321760" cy="1152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"/>
          <p:cNvSpPr/>
          <p:nvPr/>
        </p:nvSpPr>
        <p:spPr>
          <a:xfrm>
            <a:off x="0" y="1187280"/>
            <a:ext cx="9144000" cy="34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ервым произведеним Хлебникова, появившимся в печати, стало «Искушение грешника», опубликованное в 1908 г. в журнале «Весна» благодаря В. Каменскому. Через Каменского Велимир познакомился с братьями Бурлюками, художником и музыкантом М. Матюшиным и его супругой, художницей и поэтессой Еленой Гуро. В 1910 г. вышел их совместный сборник «Садок судей», ставший точкой отсчета в истории футуризма. Хлебников, старавшийся по крайней мере возможности обращаться в словотворчестве не к западным, а к русским и славянским корням, называл футуристов будетлянами, то есть провозвестниками будущего. Позднее к будетлянам примкнули Крученых и Маяковский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       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 следующем году вышел в свет наделавший много шума сборник «Пощечина общественному вкусу», в который вошел футуристический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  <a:ea typeface="Times New Roman"/>
              </a:rPr>
              <a:t>манифест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с призывом «сбросить Пушкина с корабля современности».</a:t>
            </a:r>
            <a:br>
              <a:rPr sz="1400"/>
            </a:br>
            <a:br>
              <a:rPr sz="1400"/>
            </a:br>
            <a:br>
              <a:rPr sz="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Horizontal Scroll 6"/>
          <p:cNvSpPr/>
          <p:nvPr/>
        </p:nvSpPr>
        <p:spPr>
          <a:xfrm>
            <a:off x="2286000" y="5786280"/>
            <a:ext cx="3857760" cy="1071720"/>
          </a:xfrm>
          <a:prstGeom prst="horizontalScroll">
            <a:avLst>
              <a:gd name="adj" fmla="val 12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Сбросить Пушкина с корабля соврем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571680" y="96480"/>
            <a:ext cx="75722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дновременно Хлебников продолжал свои историко-математические изыскания. На последней странице «Пощечины» был напечатан плод его многолетнего труда — загадочная таблица, где приводились даты падения великих государств прошлого. В последней строке значилось: «Некто 1917». Свои расчеты Велимир привел в изданной в том же 1912 г. книге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«Учитель и ученик»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1914 г. появились сразу три книги Хлебникова: в Петербурге —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«Изборник стихов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«Ряв! Перчатки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в Москве —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«Творения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; в 1915 и 1916 гг.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  <a:ea typeface="Times New Roman"/>
              </a:rPr>
              <a:t>—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«Битвы 1915-1917 гг. Новое учение о войне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«Время мера мира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в которых поэт, основываясь на результатах изучения войн, пытался предсказать ход первой мировой войны. В апреле 1916 г. Хлебников был призван в армию. Оказавшись в запасном полку в Царицыне, он прошел, по его словам, «весь ад перевоплощения поэта в лишенное разума животное». Благодаря помощи доктора Н. Кульбина Хлебников был комиссован. </a:t>
            </a:r>
            <a:br>
              <a:rPr sz="800"/>
            </a:br>
            <a:br>
              <a:rPr sz="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1"/>
          <p:cNvPicPr/>
          <p:nvPr/>
        </p:nvPicPr>
        <p:blipFill>
          <a:blip r:embed="rId1"/>
          <a:stretch/>
        </p:blipFill>
        <p:spPr>
          <a:xfrm>
            <a:off x="2643120" y="3429000"/>
            <a:ext cx="3476520" cy="2428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ounded Rectangle 6"/>
          <p:cNvSpPr/>
          <p:nvPr/>
        </p:nvSpPr>
        <p:spPr>
          <a:xfrm>
            <a:off x="428760" y="1928880"/>
            <a:ext cx="8501040" cy="4714920"/>
          </a:xfrm>
          <a:prstGeom prst="roundRect">
            <a:avLst>
              <a:gd name="adj" fmla="val 16667"/>
            </a:avLst>
          </a:prstGeom>
          <a:solidFill>
            <a:srgbClr val="91c6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"/>
          <p:cNvSpPr/>
          <p:nvPr/>
        </p:nvSpPr>
        <p:spPr>
          <a:xfrm>
            <a:off x="428760" y="2030760"/>
            <a:ext cx="84294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Хлебников искренне принял революцию, очевидно надеясь, что теперь сможет претворить в жизнь свои идеи — в частности, создать задуманное еще в 1915-м Общество председателей земного шара. В нем должно было быть триста семнадцать членов, поскольку, согласно теории Хлебникова, все происходящие в мире события — от войн и революций до биения сердца и колебаний струн музыкальных инструментов, — будучи изменены во времени, оказываются кратны тремстам семнадцати. Вскоре после Февральской революции Велимир написал «Воззвание председателей земного шара». Он призывал создать «независимое государство времени», свободное от пороков, свойственных «государствам пространства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1917-1921 гг. стали для Хлебникова временем скитаний. Стремясь постоянно быть в гуще событий, он, рискуя жизнью, переезжает из революционного Петрограда в Москву, оттуда — в Астрахань. 1919 г. застал его на Украине. Чтобы избежать мобилизации в армию Деникина, он вынужден был скрываться в харьковской психиатрической больнице, где ему удалось получить «белый билет». В 1920 г. Хлебников оказался на Кавказе, затем в Персии, работал в различных газетах, в бакинском и пятигорском отделениях РОСТА, в политпросвете Волжско-Каспийского флота. </a:t>
            </a:r>
            <a:br>
              <a:rPr sz="800"/>
            </a:br>
            <a:br>
              <a:rPr sz="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Title 1" descr=""/>
          <p:cNvPicPr/>
          <p:nvPr/>
        </p:nvPicPr>
        <p:blipFill>
          <a:blip r:embed="rId1"/>
          <a:stretch/>
        </p:blipFill>
        <p:spPr>
          <a:xfrm>
            <a:off x="85680" y="1311120"/>
            <a:ext cx="8223120" cy="13827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250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      </a:t>
            </a:r>
            <a:r>
              <a:rPr b="0" lang="ru-RU" sz="1600" spc="-1" strike="noStrike">
                <a:solidFill>
                  <a:srgbClr val="262626"/>
                </a:solidFill>
                <a:latin typeface="Constantia"/>
              </a:rPr>
              <a:t>Лишения, опасности и напряженная работа подорвали здоровье поэта. В декабре 1921 г. он вернулся в Москву, будучи тяжело больным, зная, что дни его сочтены. Семью ему создать так и не удалось. Самым близким человеком поэта была его младшая сестра Вера, ставшая художницей. Весной 1922 г. Хлебников вместе со своим другом — мужем Веры, художником П. Митуричем, — уехал в Новгородскую губернию, надеясь отдохнуть и набраться сил перед поездкой в Астрахань. Там, в деревне Санталово, он и скончался 28 июня 1922 г. Поэта похоронили на деревенском погосте, надпись на гробе гласила: «Председатель земного шара»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Рисунок 121" descr="http://avantgarde.narod.ru/images/beitraege/bu/il_self13.jpg"/>
          <p:cNvPicPr/>
          <p:nvPr/>
        </p:nvPicPr>
        <p:blipFill>
          <a:blip r:embed="rId2"/>
          <a:stretch/>
        </p:blipFill>
        <p:spPr>
          <a:xfrm>
            <a:off x="6572160" y="928800"/>
            <a:ext cx="1352520" cy="147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3:27:55Z</dcterms:created>
  <dc:creator>user</dc:creator>
  <dc:description/>
  <dc:language>en-US</dc:language>
  <cp:lastModifiedBy>Big_notebook</cp:lastModifiedBy>
  <dcterms:modified xsi:type="dcterms:W3CDTF">2012-07-02T05:24:23Z</dcterms:modified>
  <cp:revision>15</cp:revision>
  <dc:subject/>
  <dc:title>Проект мультимедийной презентации по теме:</dc:title>
</cp:coreProperties>
</file>